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112-6F69-4DF4-BF35-7B1859DA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C45-E8B2-43B4-B852-336E6E4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61E-C312-4DCD-9965-1FEC1836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87A-56DD-4EF2-8BCA-088D51B6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7D89-2499-48AE-BA5B-509F27ED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B8F0-3EA8-4428-A435-3316077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2678-C49D-4B72-AB5B-376FF03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7963-1C1E-4AC7-AA2D-2A6CFAC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AE67-6118-4046-ABD8-3B611FD7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DD27-E0DC-4457-8D54-9556D01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445E-5A05-4B34-B142-010D5F4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4EE-1423-461E-9AB6-5A842EA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B49-EC51-4F50-B461-7F4844BF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83A4-8AA7-4A0E-BDD2-BFD53BC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9023-1395-4D5E-AB24-F6211C3D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6145-E64E-46B1-9990-CC3D90BD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0A6-C4F9-49F4-8DD2-9CFA044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5B3-5A22-4056-A550-DBCC9A7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B3A-63B7-4967-98EF-74E5793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32F-5818-4CA3-83D2-4EDDBF02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3EC-DAEF-4468-A632-010E8D6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010-B3CC-44E0-91AB-51A2F9BF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3A5-4140-450B-AC27-FCDB2AA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F96-660C-409A-9EB1-D6E4FE9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6B7-613B-4F9E-A9C4-0BC94406441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408-3C81-4F84-8D4F-1E8020630A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PARATIVOS Y SUPERLATIVO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na presentació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ra la clase de españo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ás o menos con númer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583160" cy="1282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320040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ay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á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cinco elef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ay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siete elef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80060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decir “more than” o “less than” con números se usa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más 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menos 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áctic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2590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cribe frases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comparativa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y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superlativ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gramas cómicos/divertido/las notici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programas cómicos son más divertidos que las notici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/jugo de naranja/jugo de manz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 el jugo de naranja más que el jugo de manzana. 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 el jugo de naranja menos que el jugo de manza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uisantes/delicioso/ verdur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guisantes son los más deliciosos de las verdur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/ cinco botellas/mes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ás de cinco botellas en la mesa.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enos de cinco botellas en la mes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elículas del oeste/interesante/películas de terr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s películas del oeste son más interesantes que las películas de terror. 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s películas del oeste son menos interesantes que las películas de terror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cos compactos/bueno/cint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discos compactos son mejores que las cint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atles/malo/Rolling St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Beatles son peores que los Rolling Ston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mmy Sosa/jugador/popular/Mark McGui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mmy Sosa es un jugador más popular que Mark McGuir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¡Es fácil comparar en español!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1295280" cy="1631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38280" y="19051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casa es gra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97180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4120" y="2743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graner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grande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ca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castle45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464832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astill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grande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os/malo/revist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libros son peores que las revist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 hermana/viejo/mi herman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 hermana es mayor que mi herman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Kennedy/joven/todos los presiden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Kennedy es el menor de todos los presiden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/20 estudiantes/en la cla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ás de 20 estudiantes en la clase.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enos de 20 estudiantes en la clas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Impact"/>
              </a:rPr>
              <a:t>EL FIN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2286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¡Otro ejemplo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sta flor es bonit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81680" y="2743200"/>
            <a:ext cx="1766880" cy="1760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280" y="3276720"/>
            <a:ext cx="403884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sta flor es </a:t>
            </a:r>
            <a:r>
              <a:rPr b="1" lang="en-US" sz="3200" spc="-1" strike="noStrike">
                <a:solidFill>
                  <a:srgbClr val="99ffcc"/>
                </a:solidFill>
                <a:latin typeface="Impact"/>
              </a:rPr>
              <a:t>más</a:t>
            </a: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o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99ffcc"/>
                </a:solidFill>
                <a:latin typeface="Impact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la otra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2667240" cy="1631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30760" y="5334120"/>
            <a:ext cx="53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a flor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la 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bonita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 jard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Cómo usar </a:t>
            </a:r>
            <a:r>
              <a:rPr b="0" lang="en-US" sz="4400" spc="-1" strike="noStrike">
                <a:solidFill>
                  <a:srgbClr val="99ffcc"/>
                </a:solidFill>
                <a:latin typeface="Impact"/>
              </a:rPr>
              <a:t>meno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09400" y="196200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fero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54600" y="3124080"/>
            <a:ext cx="45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eroz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19652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4724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eno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feroz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 mu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s irregular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Bueno,  malo, viejo,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</a:t>
            </a: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 joven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tienen formas de comparativos y superlativos irregular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12720" y="3352680"/>
          <a:ext cx="6012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3352680"/>
                    <a:ext cx="6012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447920" y="3962520"/>
            <a:ext cx="739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Buen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ejor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Viej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ay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al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Peor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Joven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e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u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057400" cy="1622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6720" y="203832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manzana es bu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2209680" cy="17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33720" y="3581280"/>
            <a:ext cx="45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plátano es 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mej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manz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43828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038480" y="4648320"/>
            <a:ext cx="42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s cerezas son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las mejore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odas las fru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l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76560" y="21337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hocolate caliente es ma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81680" y="2971800"/>
            <a:ext cx="1676520" cy="163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69080" y="3429000"/>
            <a:ext cx="349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té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pe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hocolate calient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19320" y="762120"/>
            <a:ext cx="1676160" cy="259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55000" y="5029200"/>
            <a:ext cx="47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afé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pe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odas las bebidas cali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iej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819520" cy="1752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00400" y="3657600"/>
            <a:ext cx="4191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abuelo es vie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padre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ay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mad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abuel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ay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fami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Jove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768400" cy="261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920" y="2438280"/>
            <a:ext cx="426708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os hijos son jóv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madre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pad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hij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en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5:53:58Z</dcterms:created>
  <dc:creator>Williamsburg Middle School</dc:creator>
  <dc:description/>
  <dc:language>en-US</dc:language>
  <cp:lastModifiedBy>Saint John's Hgh School</cp:lastModifiedBy>
  <cp:lastPrinted>1999-02-03T18:59:24Z</cp:lastPrinted>
  <dcterms:modified xsi:type="dcterms:W3CDTF">2002-01-24T13:13:36Z</dcterms:modified>
  <cp:revision>2</cp:revision>
  <dc:subject/>
  <dc:title>COMPARATIVOS Y SUPERLATIVOS </dc:title>
</cp:coreProperties>
</file>